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0EEC-7F06-4A59-BB2A-63E30A27E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5490-C12F-4641-9B40-AE2FE3298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E69C-720F-4B9C-B286-816166680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6644-45C3-4126-97B3-1EA209EE8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6291-4D77-48A1-9F59-DFCAE1BD7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9C01-4B9A-443A-98A8-0E6428127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7F28-B563-4143-8369-697D17BC0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0BD3-DB46-4DF7-98A7-EF78EB95A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3EBF-2AF9-4E68-A28B-CD11A132E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B7B8-B21B-498E-981F-C4F4958DC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EFF9-5C71-4934-A44B-9FF54C1CE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001C-9EB7-42BF-B5E7-33723AE2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2D1A7-D4E9-414B-ACC9-EACF0BE1EB6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2130120"/>
            <a:ext cx="8856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ХИГИЈЕНА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СА ЕПИДЕМИОЛОГИЈ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8920" y="3886200"/>
            <a:ext cx="8713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98989"/>
                </a:solidFill>
                <a:latin typeface="Calibri"/>
              </a:rPr>
              <a:t>ТРЕЋА </a:t>
            </a:r>
            <a:r>
              <a:rPr b="0" lang="sr-RS" sz="3200" spc="-1" strike="noStrike">
                <a:solidFill>
                  <a:srgbClr val="898989"/>
                </a:solidFill>
                <a:latin typeface="Calibri"/>
              </a:rPr>
              <a:t>И ЧЕТВРТА </a:t>
            </a:r>
            <a:r>
              <a:rPr b="0" lang="sr-CS" sz="3200" spc="-1" strike="noStrike">
                <a:solidFill>
                  <a:srgbClr val="898989"/>
                </a:solidFill>
                <a:latin typeface="Calibri"/>
              </a:rPr>
              <a:t>НЕДЕЉА НАСТАВ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000000"/>
                </a:solidFill>
                <a:latin typeface="Calibri"/>
              </a:rPr>
              <a:t>Централна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3600" spc="-1" strike="noStrike">
                <a:solidFill>
                  <a:srgbClr val="000000"/>
                </a:solidFill>
                <a:latin typeface="Calibri"/>
              </a:rPr>
              <a:t>зон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авилу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купљ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из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адржај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словног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рговинско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ултурно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руштвено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гоститељско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јасн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финисан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цента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ек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ериферн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одиру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еплић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амбен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он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сновне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латности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радског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центра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реба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луже потребам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цело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сељ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400" spc="-1" strike="noStrike">
                <a:solidFill>
                  <a:srgbClr val="000000"/>
                </a:solidFill>
                <a:latin typeface="Calibri"/>
              </a:rPr>
              <a:t>Зона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4400" spc="-1" strike="noStrike">
                <a:solidFill>
                  <a:srgbClr val="000000"/>
                </a:solidFill>
                <a:latin typeface="Calibri"/>
              </a:rPr>
              <a:t>зеленила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4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4400" spc="-1" strike="noStrike">
                <a:solidFill>
                  <a:srgbClr val="000000"/>
                </a:solidFill>
                <a:latin typeface="Calibri"/>
              </a:rPr>
              <a:t>рекреац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ма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елики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анитарно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хигијенски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начај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хемијском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еханичком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ечишћавањ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аздух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егулисањ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емператур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елатив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лажност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аздух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мањује</a:t>
            </a: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адијацију</a:t>
            </a: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буку</a:t>
            </a: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аерозагађење</a:t>
            </a: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тиче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егенерацију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ида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зазив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ијатно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сихичко стањ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од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човек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естетском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мисл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000000"/>
                </a:solidFill>
                <a:latin typeface="Calibri"/>
              </a:rPr>
              <a:t>Зона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3600" spc="-1" strike="noStrike">
                <a:solidFill>
                  <a:srgbClr val="000000"/>
                </a:solidFill>
                <a:latin typeface="Calibri"/>
              </a:rPr>
              <a:t>зеленила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36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3600" spc="-1" strike="noStrike">
                <a:solidFill>
                  <a:srgbClr val="000000"/>
                </a:solidFill>
                <a:latin typeface="Calibri"/>
              </a:rPr>
              <a:t>рекреациј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ја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штитно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еленил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бавезн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стављ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з саобраћајнице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ко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ндустријских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мплекс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сталих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гађивач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пут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пониј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мунално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пасно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тпад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000000"/>
                </a:solidFill>
                <a:latin typeface="Calibri"/>
              </a:rPr>
              <a:t>Зона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3600" spc="-1" strike="noStrike">
                <a:solidFill>
                  <a:srgbClr val="000000"/>
                </a:solidFill>
                <a:latin typeface="Calibri"/>
              </a:rPr>
              <a:t>зеленила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36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3600" spc="-1" strike="noStrike">
                <a:solidFill>
                  <a:srgbClr val="000000"/>
                </a:solidFill>
                <a:latin typeface="Calibri"/>
              </a:rPr>
              <a:t>рекреациј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28760" y="1643040"/>
            <a:ext cx="846432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портск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ерен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бјект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реб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обро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сунчан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описно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ријентисани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обром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истему водоснабдевањ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даљен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звор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гадјењ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иш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иво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валитет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лободних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екреативних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остор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емор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дразумев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ећ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вантитативн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ступљеност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ећ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склађивањ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пецифичностим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онкрет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рба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реди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требам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орисник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радитељском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радицијом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енденцијам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азвој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реди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Значај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здравог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станова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ановањ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довољав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једн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сновн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људск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треб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треб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пстанк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физичк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штит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игурношћ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стовремен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ановањ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могућав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довољавањ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ногих друг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човеков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сихолошк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оцијалн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кономск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ултурн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треб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Значај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здравог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станова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ан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длику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в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еом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аж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војств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рхитектонск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дразумев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еличин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премљенос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 функционалнос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а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рбанистичка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лизи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екреативн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елен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врши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оступност садржај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вакоденев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треб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колошк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нфо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Значај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здравог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становањ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5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500" spc="-1" strike="noStrike">
                <a:solidFill>
                  <a:srgbClr val="000000"/>
                </a:solidFill>
                <a:latin typeface="Calibri"/>
              </a:rPr>
              <a:t>квалитетно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500" spc="-1" strike="noStrike">
                <a:solidFill>
                  <a:srgbClr val="000000"/>
                </a:solidFill>
                <a:latin typeface="Calibri"/>
              </a:rPr>
              <a:t>становање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500" spc="-1" strike="noStrike">
                <a:solidFill>
                  <a:srgbClr val="000000"/>
                </a:solidFill>
                <a:latin typeface="Calibri"/>
              </a:rPr>
              <a:t>постаје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500" spc="-1" strike="noStrike">
                <a:solidFill>
                  <a:srgbClr val="000000"/>
                </a:solidFill>
                <a:latin typeface="Calibri"/>
              </a:rPr>
              <a:t>временом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500" spc="-1" strike="noStrike">
                <a:solidFill>
                  <a:srgbClr val="000000"/>
                </a:solidFill>
                <a:latin typeface="Calibri"/>
              </a:rPr>
              <a:t>битан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морбогени</a:t>
            </a:r>
            <a:r>
              <a:rPr b="0" lang="pl-PL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фактор</a:t>
            </a:r>
            <a:r>
              <a:rPr b="0" lang="pl-PL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pl-PL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настанак</a:t>
            </a:r>
            <a:r>
              <a:rPr b="0" lang="pl-PL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инфекција</a:t>
            </a:r>
            <a:r>
              <a:rPr b="0" lang="pl-PL" sz="2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повређивања</a:t>
            </a:r>
            <a:r>
              <a:rPr b="0" lang="pl-PL" sz="25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тровања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алергија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Осим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тога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квалитетно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становање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повлачи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собом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следеће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проблеме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одсуство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разноврсности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урбаних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садржаја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висок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степен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зависности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аутомобила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употреба</a:t>
            </a:r>
            <a:r>
              <a:rPr b="0" lang="vi-VN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штетних</a:t>
            </a:r>
            <a:r>
              <a:rPr b="0" lang="vi-VN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неодрживих</a:t>
            </a:r>
            <a:r>
              <a:rPr b="0" lang="vi-VN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грађевинских</a:t>
            </a:r>
            <a:r>
              <a:rPr b="0" lang="vi-VN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материјала</a:t>
            </a:r>
            <a:r>
              <a:rPr b="0" lang="vi-VN" sz="25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низак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степен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одржавања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оштећења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конструкције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велику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потрошњу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енергиј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Микроклиматски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услови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стану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птималн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икроклиматск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слов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амбено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стор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зависни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пољашњих параметар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авилни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збор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рејн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ентилацион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истема постиж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дговарајућ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емператур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лажност ваздух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сторијам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овољн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личина свеже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аздух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Микроклиматски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услови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стану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ентилација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ановима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рши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нфилтрацијом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иродном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 механичк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ентилациј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ад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веден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иво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еом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иск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емал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вежег ваздух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лази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нутрашњи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стор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е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гађивачи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 зград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ог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кумулирај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иво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ож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а узроку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дравстве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блем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Микроклиматски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услови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стану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2071800"/>
            <a:ext cx="822960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ешењ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блем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валитет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аздух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 становим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ућам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кључуј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акве акције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што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лиминациј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нтрола извора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гађења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већана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ентилација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 постављање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ређаја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ечишћавањеваздух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ХИГИЈЕНА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НАСЕЉ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Осветљавање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стамбених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просториј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невним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ветлом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треба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безбеђује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комфорније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квалитетније освјетљењ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ног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з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вештачких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звор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Такв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ракс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мањуј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отребу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електричним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зворим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ветлости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т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тог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води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мањењу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отрошњ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електричн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енергиј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њом повезаних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трошкова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загађења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обро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ројектованим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истемом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невног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светљењ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збегавају с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рекомерни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јај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контраст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могу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штет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вид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42960" y="2356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ВОДА ЗА ПИЋ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457200" y="2822400"/>
            <a:ext cx="79246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ОДА је стабилан хемијски спој  водоника и кисеони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Хемијски чиста вода (десатилована вода)  при притиску од 1 атмосфере  има тачку мржњења од 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, тачку кључања од 10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, а највеће густине је на 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457200" y="99072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ЕФИНИЦИЈА В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395280" y="189000"/>
            <a:ext cx="8153280" cy="61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а Земљи има 1,5 милијарди 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воде. Од те количине 97, 3% је слана вода, а само 2,7% слатка. Од укупне количине слатке воде 77,2% је у вечитом леду на половима и у планинским глечери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д укупне количине расположиве слатке воде 22,4% су подземне воде, а 0,36% површинске во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За коришћење је на располагању 1% укупне количине воде на Земљ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762120" y="2209680"/>
            <a:ext cx="6095880" cy="43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ИОЛОШ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ХИГИЈЕНС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КОЛОШ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ПИДЕМИОЛОШ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457200" y="76212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НАЧАЈ В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457200" y="79200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НАЧАЈ ВОДЕ- БИОЛОШКИ И ХИГИЈЕНС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Object 3"/>
          <p:cNvGraphicFramePr/>
          <p:nvPr/>
        </p:nvGraphicFramePr>
        <p:xfrm>
          <a:off x="1828800" y="3086280"/>
          <a:ext cx="5486400" cy="66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3086280"/>
                    <a:ext cx="548640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Text Box 4"/>
          <p:cNvSpPr/>
          <p:nvPr/>
        </p:nvSpPr>
        <p:spPr>
          <a:xfrm>
            <a:off x="-76320" y="1828800"/>
            <a:ext cx="8991720" cy="52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ода је један од основних услова жив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0% организма одраслог човека чини в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според воде у организму ч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бласт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% од телесне тежин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Литр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кстрацел.  интраваск. плазм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4-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нтерстицијална ткивна течнос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12-18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нтрацелуларна ткивна течнос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40-5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Целокупна течност организма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  70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762120" y="2209680"/>
            <a:ext cx="609588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79200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НАЧАЈ ВОДЕ- БИОЛОШКИ И ХИГИЈЕНС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609480" y="1981080"/>
            <a:ext cx="7925040" cy="45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држава хидростатски, онкотски и осмотски притис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могућава обављање биохемијских процеса и уклањање штетних супстанција из орга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и нормалном функционисању здравог организма одржава се стални биланс воде у ње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762120" y="2209680"/>
            <a:ext cx="609588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179280" y="404640"/>
            <a:ext cx="838224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иланс воде у здравом организм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по Pillenu и Rushmaer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Уношењe вoдe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давање в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блик        </a:t>
            </a:r>
            <a:r>
              <a:rPr b="1" i="1" lang="sr-C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количина(ml )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пут               </a:t>
            </a:r>
            <a:r>
              <a:rPr b="1" i="1" lang="sr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sr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sr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sr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sr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sr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sr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количина (m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идљ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a течност              120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Плућ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ранa                                  110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Ко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ж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oда oксидације                  30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Ур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1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eцe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упно                        260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Укупн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2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762120" y="2209680"/>
            <a:ext cx="609588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0" y="792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НАЧАЈ ВОДЕ- БИОЛОШКИ И ХИГИЈЕНС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380880" y="1828800"/>
            <a:ext cx="822960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ода је неопходна намирница за сва жива бић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невне потребе у води за пић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едео и годишње доб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Потребе у  вод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l/да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мерена клим. подр. (30-40 ml/kg ТМ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2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Жарки предел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5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устињ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-11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ето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3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им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1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762120" y="2209680"/>
            <a:ext cx="609588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324000" y="1341360"/>
            <a:ext cx="8381880" cy="543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ез воде човек може да издржи само неколико д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следице губитка в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штећењ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Дневни губитак у литрим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четна дехидрациј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,5 литара (2% ТМ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олест дехидрациј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,2 литра (6% Т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Смрт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0-11 литара (15% Т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Насеља</a:t>
            </a: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места</a:t>
            </a: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сталног</a:t>
            </a: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повременог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оравк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људ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јим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двиј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њихова производњ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 друг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латност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њихов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руштвен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 личн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живо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сеља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лимо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радска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рбана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) 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оск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урал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762120" y="2209680"/>
            <a:ext cx="609588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457200" y="76212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НАЧАЈ ВОДЕ- БИОЛОШКИ И ХИГИЈЕНС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57200" y="2268360"/>
            <a:ext cx="838188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ода омогућава одржавање сталне телесне температуре због високог топлотног капацитета (4 пута већи од ваздуха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давање топлоте испаравањем (знојењем) је једини терморегулациони механизам који функционише када сви други откажу (зрачење, кондукција, конвекција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762120" y="2209680"/>
            <a:ext cx="609588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457200" y="60948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НАЧАЈ ВОДЕ- ЕКОЛО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ШКИ И ЕПИДЕМИОЛОШ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457200" y="2986200"/>
            <a:ext cx="815328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 води се под утицајем Сунчеве енергије и растворених неорганских материја ствара жива материја која кружи у ланцу исхране (фитопланктон, па зоопланктон, па виши водени организми и тд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762120" y="2209680"/>
            <a:ext cx="609588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457200" y="609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НАЧАЈ ВОДЕ- ЕКОЛО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ШКИ И ЕПИДЕМИОЛОШ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457200" y="2589120"/>
            <a:ext cx="830592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 води је могућ живот, развој, размножавање и опстанак различитих биолошких и хемијских чинилаца који могу да утичу на здрављ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одом се могу пренети бактерије, вируси и парази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762120" y="2209680"/>
            <a:ext cx="609588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457200" y="609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НАЧАЈ ВОДЕ- ЕКОЛО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ШКИ И ЕПИДЕМИОЛОШ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457200" y="1957320"/>
            <a:ext cx="815328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Бактериј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које се могу пренети водом и доводе до оштећења здравља су: E. coli, Proteus, Streptococcus faecalis, Bacilus dysenteriae, Salmonella typhi, Salmonella paratyphi A i B, Shigellae, Vibrio colerae, Pasteurella tularenssis i d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Дужuна њиховoг oпстaнкa у води зa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</a:rPr>
              <a:t>ви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б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лoшке 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н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</a:rPr>
              <a:t>ку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рe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ц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јe, Сунчeвe 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</a:rPr>
              <a:t>св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тлости, количине органских материја, ф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</a:rPr>
              <a:t>изичких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(npr. темпeра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</a:rPr>
              <a:t>тур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) и хем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јск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х (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р. pH) свој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та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 вo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762120" y="2209680"/>
            <a:ext cx="609588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826920" y="333360"/>
            <a:ext cx="746784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ирус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који се могу пренети водом и доводе до оштећења здравља су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eno (31 serotip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ho (31 serot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xsaci A (23 serotipa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xsaci B (6 serotipov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lio (3 serotip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o (3 serotipa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pato (2 serotip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ytomegalo (1 sreot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762120" y="2209680"/>
            <a:ext cx="609588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609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НАЧАЈ ВОДЕ- ЕКОЛО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ШКИ И ЕПИДЕМИОЛОШ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457200" y="2489040"/>
            <a:ext cx="8305920" cy="40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ужина опстанка неких ентеровиру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редин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реме у данима н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ечна вод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-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Језерска вода и акумулациј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-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Загађена вода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преко 3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762120" y="2209680"/>
            <a:ext cx="609588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57200" y="609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НАЧАЈ ВОДЕ- ЕКОЛО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ШКИ И ЕПИДЕМИОЛОШ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457200" y="2268360"/>
            <a:ext cx="800100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аразит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који се могу пренети водом и доводе до оштећења здравља су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entameba histoliti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mblia intestinal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karis lumbriko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ihocefa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xyuris vermicula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762120" y="2209680"/>
            <a:ext cx="609588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609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НАЧАЈ ВОДЕ- ЕКОЛО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ШКИ И ЕПИДЕМИОЛОШ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539640" y="1628640"/>
            <a:ext cx="7162920" cy="57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икроорганизми краће опстају 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агађеној вод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а вишој температур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и јачем и дужем Сунчевом зрачењ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и мањој количини органских матер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чешћој промени физичких и хемијских својстава в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762120" y="2209680"/>
            <a:ext cx="609588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57200" y="609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НАЧАЈ ВОДЕ- ЕКОЛО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ШКИ И ЕПИДЕМИОЛОШ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533520" y="2543040"/>
            <a:ext cx="815328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ема подацима СЗО од болести  пренетих водом оболи око 500 милиона људи, а умре око 10 милио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оцењује се да око 10% болничких кревета користе болесници оболели од болести пренети микробиолошки неисправном вод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762120" y="2209680"/>
            <a:ext cx="609588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457200" y="6094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НАЧАЈ ВОДЕ- ЕКОЛО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ШКИ И ЕПИДЕМИОЛОШ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39640" y="1641600"/>
            <a:ext cx="77724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даци о тачном броју оболелих због употребе физичко- хемијски неисправне воде не постој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ода може бити физичко-хемијски неисправна због повећаног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нитр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ти-метхемоглобинемија, магнезијум-дијареја, детерџенти-алергије, трухалометани, PAH, PCB-малигна обољења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или смањеног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јод-струма, флуор-зубни каријес, цалцијум и магнезијум. болести КВС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садржаја појединих показатељ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д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градом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подразумевамо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веће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насеље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коме: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лавнина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ановништва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живи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ади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авећи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пољопривредни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латностим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венствен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ндустриј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авремени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радови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азликују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ложају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згледу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 функцијама и величин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1143000" y="6094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HelveticaPlain"/>
              </a:rPr>
              <a:t>ВОДОВ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324000" y="1125360"/>
            <a:ext cx="8439120" cy="53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је систем за снабдевање водом за пи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ћ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е који има најмање уре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ђ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ено и за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ти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ћ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ено извори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те, капта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ж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у, резервоар и водоводну мре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ж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ВОДОВОДНА МРЕ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Ж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је систем цеви за одвод воде од капта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ж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е или уре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ђ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аја за пре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ч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и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шћ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авање воде до резервоара и од резервоара до потро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а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ч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а воде за пи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ћ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е (хидранти и вентили су саставни део водоводне мре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ж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Plain"/>
              </a:rPr>
              <a:t>Делови су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Plain"/>
              </a:rPr>
              <a:t>главни вод (</a:t>
            </a:r>
            <a:r>
              <a:rPr b="0" i="1" lang="en-US" sz="2000" spc="-1" strike="noStrike">
                <a:solidFill>
                  <a:srgbClr val="000000"/>
                </a:solidFill>
                <a:latin typeface="HelveticaPlain"/>
              </a:rPr>
              <a:t>од капта</a:t>
            </a:r>
            <a:r>
              <a:rPr b="0" i="1" lang="sr-CS" sz="2000" spc="-1" strike="noStrike">
                <a:solidFill>
                  <a:srgbClr val="000000"/>
                </a:solidFill>
                <a:latin typeface="HelveticaPlain"/>
              </a:rPr>
              <a:t>ж</a:t>
            </a:r>
            <a:r>
              <a:rPr b="0" i="1" lang="en-US" sz="2000" spc="-1" strike="noStrike">
                <a:solidFill>
                  <a:srgbClr val="000000"/>
                </a:solidFill>
                <a:latin typeface="HelveticaPlain"/>
              </a:rPr>
              <a:t>е или уре</a:t>
            </a:r>
            <a:r>
              <a:rPr b="0" i="1" lang="sr-CS" sz="2000" spc="-1" strike="noStrike">
                <a:solidFill>
                  <a:srgbClr val="000000"/>
                </a:solidFill>
                <a:latin typeface="HelveticaPlain"/>
              </a:rPr>
              <a:t>ђ</a:t>
            </a:r>
            <a:r>
              <a:rPr b="0" i="1" lang="en-US" sz="2000" spc="-1" strike="noStrike">
                <a:solidFill>
                  <a:srgbClr val="000000"/>
                </a:solidFill>
                <a:latin typeface="HelveticaPlain"/>
              </a:rPr>
              <a:t>аја за пре</a:t>
            </a:r>
            <a:r>
              <a:rPr b="0" i="1" lang="sr-CS" sz="2000" spc="-1" strike="noStrike">
                <a:solidFill>
                  <a:srgbClr val="000000"/>
                </a:solidFill>
                <a:latin typeface="HelveticaPlain"/>
              </a:rPr>
              <a:t>ч</a:t>
            </a:r>
            <a:r>
              <a:rPr b="0" i="1" lang="en-US" sz="2000" spc="-1" strike="noStrike">
                <a:solidFill>
                  <a:srgbClr val="000000"/>
                </a:solidFill>
                <a:latin typeface="HelveticaPlain"/>
              </a:rPr>
              <a:t>и</a:t>
            </a:r>
            <a:r>
              <a:rPr b="0" i="1" lang="sr-CS" sz="2000" spc="-1" strike="noStrike">
                <a:solidFill>
                  <a:srgbClr val="000000"/>
                </a:solidFill>
                <a:latin typeface="HelveticaPlain"/>
              </a:rPr>
              <a:t>шћ</a:t>
            </a:r>
            <a:r>
              <a:rPr b="0" i="1" lang="en-US" sz="2000" spc="-1" strike="noStrike">
                <a:solidFill>
                  <a:srgbClr val="000000"/>
                </a:solidFill>
                <a:latin typeface="HelveticaPlain"/>
              </a:rPr>
              <a:t>авање воде до резервоара и резервоара до разводне мре</a:t>
            </a:r>
            <a:r>
              <a:rPr b="0" i="1" lang="sr-CS" sz="2000" spc="-1" strike="noStrike">
                <a:solidFill>
                  <a:srgbClr val="000000"/>
                </a:solidFill>
                <a:latin typeface="HelveticaPlain"/>
              </a:rPr>
              <a:t>ж</a:t>
            </a:r>
            <a:r>
              <a:rPr b="0" i="1" lang="en-US" sz="2000" spc="-1" strike="noStrike">
                <a:solidFill>
                  <a:srgbClr val="000000"/>
                </a:solidFill>
                <a:latin typeface="HelveticaPlain"/>
              </a:rPr>
              <a:t>е</a:t>
            </a:r>
            <a:r>
              <a:rPr b="1" lang="en-US" sz="2000" spc="-1" strike="noStrike">
                <a:solidFill>
                  <a:srgbClr val="000000"/>
                </a:solidFill>
                <a:latin typeface="HelveticaPlai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elveticaPlain"/>
              </a:rPr>
              <a:t>разводна мре</a:t>
            </a:r>
            <a:r>
              <a:rPr b="1" lang="sr-CS" sz="2000" spc="-1" strike="noStrike">
                <a:solidFill>
                  <a:srgbClr val="000000"/>
                </a:solidFill>
                <a:latin typeface="HelveticaPlain"/>
              </a:rPr>
              <a:t>ж</a:t>
            </a:r>
            <a:r>
              <a:rPr b="1" lang="en-US" sz="2000" spc="-1" strike="noStrike">
                <a:solidFill>
                  <a:srgbClr val="000000"/>
                </a:solidFill>
                <a:latin typeface="HelveticaPlain"/>
              </a:rPr>
              <a:t>а (</a:t>
            </a:r>
            <a:r>
              <a:rPr b="0" i="1" lang="en-US" sz="2000" spc="-1" strike="noStrike">
                <a:solidFill>
                  <a:srgbClr val="000000"/>
                </a:solidFill>
                <a:latin typeface="HelveticaPlain"/>
              </a:rPr>
              <a:t>од главног вода до резервоара</a:t>
            </a:r>
            <a:r>
              <a:rPr b="1" lang="en-US" sz="2000" spc="-1" strike="noStrike">
                <a:solidFill>
                  <a:srgbClr val="000000"/>
                </a:solidFill>
                <a:latin typeface="HelveticaPlai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324000" y="60948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ЗОНЕ И ПОЈАС САНИТАРНЕ ЗА</a:t>
            </a:r>
            <a:r>
              <a:rPr b="1" lang="sr-CS" sz="32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Т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324000" y="2381400"/>
            <a:ext cx="8439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обухватају простор који се утвр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ђ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ује око извори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та за свабдевање водом за пи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ћ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е (бунари и капта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ж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е за хватање подземне воде, захват са ре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ч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ног тока и акумулације), уре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ђ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аја за пре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ч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и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шћ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авање, резервоара и главног цевовода у циљу за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тите квалитета воде за пи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ћ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е од намерног или слу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ч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ајног зага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ђ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ења као и других 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тетних утица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ЗОНЕ И ПОЈАСЕВИ САНИТАРНЕ ЗА</a:t>
            </a:r>
            <a:r>
              <a:rPr b="1" lang="sr-CS" sz="32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Т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324000" y="1881360"/>
            <a:ext cx="836280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HelveticaPlain"/>
              </a:rPr>
              <a:t>Врсте зона</a:t>
            </a: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HelveticaPlai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Зона непосредне за</a:t>
            </a:r>
            <a:r>
              <a:rPr b="1" lang="sr-CS" sz="32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тите (</a:t>
            </a:r>
            <a:r>
              <a:rPr b="0" i="1" lang="en-US" sz="3200" spc="-1" strike="noStrike">
                <a:solidFill>
                  <a:srgbClr val="000000"/>
                </a:solidFill>
                <a:latin typeface="HelveticaPlain"/>
              </a:rPr>
              <a:t>зона строгог надзора</a:t>
            </a: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HelveticaPlai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У</a:t>
            </a:r>
            <a:r>
              <a:rPr b="1" lang="sr-CS" sz="3200" spc="-1" strike="noStrike">
                <a:solidFill>
                  <a:srgbClr val="000000"/>
                </a:solidFill>
                <a:latin typeface="HelveticaPlain"/>
              </a:rPr>
              <a:t>ж</a:t>
            </a: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а зона за</a:t>
            </a:r>
            <a:r>
              <a:rPr b="1" lang="sr-CS" sz="32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тите (</a:t>
            </a:r>
            <a:r>
              <a:rPr b="0" i="1" lang="en-US" sz="3200" spc="-1" strike="noStrike">
                <a:solidFill>
                  <a:srgbClr val="000000"/>
                </a:solidFill>
                <a:latin typeface="HelveticaPlain"/>
              </a:rPr>
              <a:t>зона ограни</a:t>
            </a:r>
            <a:r>
              <a:rPr b="0" i="1" lang="sr-CS" sz="3200" spc="-1" strike="noStrike">
                <a:solidFill>
                  <a:srgbClr val="000000"/>
                </a:solidFill>
                <a:latin typeface="HelveticaPlain"/>
              </a:rPr>
              <a:t>ч</a:t>
            </a:r>
            <a:r>
              <a:rPr b="0" i="1" lang="en-US" sz="3200" spc="-1" strike="noStrike">
                <a:solidFill>
                  <a:srgbClr val="000000"/>
                </a:solidFill>
                <a:latin typeface="HelveticaPlain"/>
              </a:rPr>
              <a:t>ења</a:t>
            </a: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HelveticaPlai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ира зона за</a:t>
            </a:r>
            <a:r>
              <a:rPr b="1" lang="sr-CS" sz="32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тите(</a:t>
            </a:r>
            <a:r>
              <a:rPr b="0" i="1" lang="en-US" sz="3200" spc="-1" strike="noStrike">
                <a:solidFill>
                  <a:srgbClr val="000000"/>
                </a:solidFill>
                <a:latin typeface="HelveticaPlain"/>
              </a:rPr>
              <a:t>зона надзора</a:t>
            </a: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HelveticaPlai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Појас за</a:t>
            </a:r>
            <a:r>
              <a:rPr b="1" lang="sr-CS" sz="32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т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3"/>
          <p:cNvSpPr/>
          <p:nvPr/>
        </p:nvSpPr>
        <p:spPr>
          <a:xfrm>
            <a:off x="684360" y="404640"/>
            <a:ext cx="7619760" cy="71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Критеријуми за одре</a:t>
            </a:r>
            <a:r>
              <a:rPr b="1" lang="sr-CS" sz="3200" spc="-1" strike="noStrike">
                <a:solidFill>
                  <a:srgbClr val="000000"/>
                </a:solidFill>
                <a:latin typeface="HelveticaPlain"/>
              </a:rPr>
              <a:t>ђ</a:t>
            </a: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ивање зона санитарне за</a:t>
            </a:r>
            <a:r>
              <a:rPr b="1" lang="sr-CS" sz="32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ти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врста изда</a:t>
            </a:r>
            <a:r>
              <a:rPr b="1" lang="sr-CS" sz="32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ности извори</a:t>
            </a:r>
            <a:r>
              <a:rPr b="1" lang="sr-CS" sz="32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врста обј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на</a:t>
            </a:r>
            <a:r>
              <a:rPr b="1" lang="sr-CS" sz="3200" spc="-1" strike="noStrike">
                <a:solidFill>
                  <a:srgbClr val="000000"/>
                </a:solidFill>
                <a:latin typeface="HelveticaPlain"/>
              </a:rPr>
              <a:t>ч</a:t>
            </a: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ин захвата в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санитарно-техни</a:t>
            </a:r>
            <a:r>
              <a:rPr b="1" lang="sr-CS" sz="3200" spc="-1" strike="noStrike">
                <a:solidFill>
                  <a:srgbClr val="000000"/>
                </a:solidFill>
                <a:latin typeface="HelveticaPlain"/>
              </a:rPr>
              <a:t>ч</a:t>
            </a: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ко уре</a:t>
            </a:r>
            <a:r>
              <a:rPr b="1" lang="sr-CS" sz="3200" spc="-1" strike="noStrike">
                <a:solidFill>
                  <a:srgbClr val="000000"/>
                </a:solidFill>
                <a:latin typeface="HelveticaPlain"/>
              </a:rPr>
              <a:t>ђ</a:t>
            </a: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ење т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струк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конфигура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хидрогеоло</a:t>
            </a:r>
            <a:r>
              <a:rPr b="1" lang="sr-CS" sz="32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ка и др. својства земљи</a:t>
            </a:r>
            <a:r>
              <a:rPr b="1" lang="sr-CS" sz="32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3200" spc="-1" strike="noStrike">
                <a:solidFill>
                  <a:srgbClr val="000000"/>
                </a:solidFill>
                <a:latin typeface="HelveticaPlain"/>
              </a:rPr>
              <a:t>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3"/>
          <p:cNvSpPr/>
          <p:nvPr/>
        </p:nvSpPr>
        <p:spPr>
          <a:xfrm>
            <a:off x="0" y="189000"/>
            <a:ext cx="8839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НЕПОСРЕДНА зона санитарне за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ти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одре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ђ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ује се око извори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та, црпних станица, инсталација за поправку квалитета воде, резервоара и комора за прекид прити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обезбе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ђ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ује се огра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ђ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ивањем (изузетак водоторњев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је најмање 10 м од објекта код резервоара, црпних станица, инсталација за поправку воде, комора за прекид притиска и дубоко бу{ених буна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дозвољен приступ само запосленим лицима под здравственим надзо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мо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ж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е се користити само као сенокос, али без употребе </a:t>
            </a:r>
            <a:r>
              <a:rPr b="1" lang="sr-CS" sz="2400" spc="-1" strike="noStrike">
                <a:solidFill>
                  <a:srgbClr val="000000"/>
                </a:solidFill>
                <a:latin typeface="HelveticaPlain"/>
              </a:rPr>
              <a:t>ђ</a:t>
            </a:r>
            <a:r>
              <a:rPr b="1" lang="en-US" sz="2400" spc="-1" strike="noStrike">
                <a:solidFill>
                  <a:srgbClr val="000000"/>
                </a:solidFill>
                <a:latin typeface="HelveticaPlain"/>
              </a:rPr>
              <a:t>убрива, пестицида и хербици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3"/>
          <p:cNvSpPr/>
          <p:nvPr/>
        </p:nvSpPr>
        <p:spPr>
          <a:xfrm>
            <a:off x="611280" y="189000"/>
            <a:ext cx="76960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У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Ж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А зона санитарне за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тит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одре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ђ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ује се око извори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ч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ини повр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ина земљи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та под санитарним надзором на којој није дозвољена изградња објек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обухвата целокупну повр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ину депресионог левка или најмање 500 м око акумулације при нормалном успо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не огра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ђ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ује се, а земљи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те се мо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ж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е користити у пољопривредне сврхе уз ограни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ч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ење употребе 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ђ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убрива, пестицида и хербици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3"/>
          <p:cNvSpPr/>
          <p:nvPr/>
        </p:nvSpPr>
        <p:spPr>
          <a:xfrm>
            <a:off x="826920" y="404640"/>
            <a:ext cx="7620120" cy="67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ИРА зона санитарне за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тит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одре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ђ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ује се око извори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обухвата целу или део територије сливног подру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ч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ја извори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та или територију која слу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ж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и за напајање извори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забрањена је изградања индустријских и других објеката 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ч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ије отпадне воде и материје из техноло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ког процеса могу загадити извори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3"/>
          <p:cNvSpPr/>
          <p:nvPr/>
        </p:nvSpPr>
        <p:spPr>
          <a:xfrm>
            <a:off x="684360" y="404640"/>
            <a:ext cx="7467480" cy="67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Појас за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ш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ти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успоставља око главних цевов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износи најмање по 2,5 метара са сваке стра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у њему није дозвољена изградња објеката, постављање уре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ђ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аја и обављање радњи које на било који на</a:t>
            </a:r>
            <a:r>
              <a:rPr b="1" lang="sr-CS" sz="2800" spc="-1" strike="noStrike">
                <a:solidFill>
                  <a:srgbClr val="000000"/>
                </a:solidFill>
                <a:latin typeface="HelveticaPlain"/>
              </a:rPr>
              <a:t>ч</a:t>
            </a:r>
            <a:r>
              <a:rPr b="1" lang="en-US" sz="2800" spc="-1" strike="noStrike">
                <a:solidFill>
                  <a:srgbClr val="000000"/>
                </a:solidFill>
                <a:latin typeface="HelveticaPlain"/>
              </a:rPr>
              <a:t>ин могу угрозити воду и стабилност цевов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1143000" y="68580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ЕЗИНФЕКЦИЈА ВОДЕ ЗА ПИЋ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755640" y="1484280"/>
            <a:ext cx="7086600" cy="49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ЕФИНИ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ЕЗИНФЕКЦИЈА ВОДЕ ЗА ПИЋЕ је метод пречишћавања воде којим се уклањају патогени и условно патогени микроорганизми. Њиме се не уклањају спорогени облици и цисте. Вируси се могу уклањати при довољно дугој изложености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3"/>
          <p:cNvSpPr/>
          <p:nvPr/>
        </p:nvSpPr>
        <p:spPr>
          <a:xfrm>
            <a:off x="1143000" y="2009880"/>
            <a:ext cx="762012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ЕХАНИЗАМ ДЕЈ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клањање патогених и условно патогених микроорганизама је последица поремећаја колоидне равнотеже и/или равнотеже ферментног система дисања и/или метаболизма микроорганиз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гађење</a:t>
            </a: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животне</a:t>
            </a: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редине</a:t>
            </a: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стаје</a:t>
            </a: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ве</a:t>
            </a: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ећи</a:t>
            </a: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облем</a:t>
            </a: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 изградњ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радов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бог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исок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онцентрациј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људ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 њихових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активности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оје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требно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безбедити одговарајућ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физичк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квир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нфраструктур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облеми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ављају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спитиваним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пулацијама насељ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днос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ширењ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радског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кив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еко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љопривредног земљишт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еодговарајућ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локациј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лавних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ндустријских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он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едостатак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аобраћајних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обилазниц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ко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радов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лаба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омунална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премљеност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тд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3"/>
          <p:cNvSpPr/>
          <p:nvPr/>
        </p:nvSpPr>
        <p:spPr>
          <a:xfrm>
            <a:off x="395280" y="1197000"/>
            <a:ext cx="806436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МЕТОДЕ ДЕЗИНФЕКЦ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МЕХАНИЧКЕ МЕТОД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ФИЗИЧКЕ МЕТОД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ХЕМИЈСКЕ МЕТОД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3"/>
          <p:cNvSpPr/>
          <p:nvPr/>
        </p:nvSpPr>
        <p:spPr>
          <a:xfrm>
            <a:off x="826920" y="260280"/>
            <a:ext cx="7315200" cy="53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ЕХАНИЧКЕ МЕТОДЕ ДЕЗИНФЕК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ајраспрострањенија механичка метода дезинфекције воде је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филтрирањ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ИЛТРИРАЊЕ се користи за дезинфекцију малих количина воде за пиће или као једна од етапа у преради великих количина воде за пић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јпознатији филтри су: Chamberland-ovi, Berkfefeld-ovi, а у новије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eмe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ф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т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р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д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ластичних ма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3"/>
          <p:cNvSpPr/>
          <p:nvPr/>
        </p:nvSpPr>
        <p:spPr>
          <a:xfrm>
            <a:off x="539640" y="404640"/>
            <a:ext cx="813600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ИЗИЧКЕ МЕТОД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ЕЗИНФЕК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Физичке методе дезинфекције се обично користе за дезинфекцију малих количина воде за пић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имењује с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Топлот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вода кључа 10 минута, што је довољно да се коагулишу беланчевине бактериј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Ултраљубичасти зрац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таласна дужина од 2000-2950 ангстрема разарају протоплазму микроорганизама. Уклањају бактерије и вирусе. Услов је бистра вода  која се у танком млазу пропушта преко површине лампе. На овај начин се најчешће дезинфикује минерална вода. Недостатак методе је одсуство одложеног дезинфекционог ефек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Ултразву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3"/>
          <p:cNvSpPr/>
          <p:nvPr/>
        </p:nvSpPr>
        <p:spPr>
          <a:xfrm>
            <a:off x="684360" y="549360"/>
            <a:ext cx="76197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ХЕМИЈСКЕ МЕТОДЕ ДЕЗИНФЕК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Хемијске методе дезинфекције  воде обухватају примену хемијских супстанциј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ода се ретко дезинфикује кречом, персирћетном киселином, јодом, тешким металима (сребром и др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Најчешће се хемијска дезинфекција воде обавља применом хлора и озо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3"/>
          <p:cNvSpPr/>
          <p:nvPr/>
        </p:nvSpPr>
        <p:spPr>
          <a:xfrm>
            <a:off x="684360" y="404640"/>
            <a:ext cx="769608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езинфекција воде хло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лор је жућкасто-зеленкасти гас који у контакту са водом ствара хипохлорасту киселину, хлороводоничну киселину и насцентни кисео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еханизам дејства није до краја расветљен, али се сматра да је бактерицидни ефекат последица реакције хипохлорасте киселине, хлороводоничне киселине и насцентног кисеоника са SH-ферментним системом дисања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три-азо-фосфор</a:t>
            </a:r>
            <a:r>
              <a:rPr b="0" i="1" lang="sl-SI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дехидрогеназо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елује на бактерије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патогене и условно патоген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и ентеровиру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3"/>
          <p:cNvSpPr/>
          <p:nvPr/>
        </p:nvSpPr>
        <p:spPr>
          <a:xfrm>
            <a:off x="1187280" y="260280"/>
            <a:ext cx="7315200" cy="57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УСПЕХ ХЛОРИСАЊА ЗАВИСИ О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иолошких својстава микроорганиз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рсте хлорног препар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омогенизације хлорног препар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ремена контакта са вод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етеоролошких елемен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емперату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H вред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утноћ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адржаја суспендованих и органских материј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3"/>
          <p:cNvSpPr/>
          <p:nvPr/>
        </p:nvSpPr>
        <p:spPr>
          <a:xfrm>
            <a:off x="900000" y="620640"/>
            <a:ext cx="76201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СПЕХ ХЛОРИСАЊА ЗАВИСИ 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Што су микроорганизми савршенији то су отпорнији на дезинфекцију хлором. Грам-негативне бактерије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lmoneлла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су осетљивије од грам-позитивних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igela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јбољи бактерицидни ефекат показује хлор-диоксид, па хлор, гас, хлор течност, хипохлораста киселина, хлорни креч, хлорами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епарат мора бити добро хомогенизован да би дезинфекција била успеш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3"/>
          <p:cNvSpPr/>
          <p:nvPr/>
        </p:nvSpPr>
        <p:spPr>
          <a:xfrm>
            <a:off x="900000" y="549360"/>
            <a:ext cx="7543800" cy="52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СПЕХ ХЛОРИСАЊА ЗАВИСИ 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реме контакта мора да је најмање 30 мину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 нижим температурама је дезинфекција спорија, а и потребна је већа количина хлорног препар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унчево зрачење и ветар убрзавају дезинфекцију, али и исчезавање хлора из 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птималн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вредност за дезинфекцију је 6,2-6,5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при pH 7,2 дезинфекциони ефекат је 84%, а при pH 8 је 55%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већана мутноћа, присуство суспендованих и органских материја смањују ефекат дезинфек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3"/>
          <p:cNvSpPr/>
          <p:nvPr/>
        </p:nvSpPr>
        <p:spPr>
          <a:xfrm>
            <a:off x="755640" y="476280"/>
            <a:ext cx="7696080" cy="47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ЛОРНИ ПРЕПАРА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 тржишту број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фикасност зависи од садржаја активног хл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лор гас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У 1 l воде на 10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С се раствара 9,5g. У водоводном систему да би дезинфекција била успешна пожељно је да буде температура 10-15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, притисак 3 at као би растворљивост била 4,0 g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лордиоксид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У 1 l воде на 25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се раствара 81 g. Оптимална концентрација за дезинфекцију подземне и пречишћене воде је 0,25-0,5 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3"/>
          <p:cNvSpPr/>
          <p:nvPr/>
        </p:nvSpPr>
        <p:spPr>
          <a:xfrm>
            <a:off x="324000" y="189000"/>
            <a:ext cx="8591400" cy="51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ЛОРНИ ПРЕПАРА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лорни креч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Смеша у којој преовлађује хлор-хипохлорит који је нестабилно једињење. Када се правилно чува садржај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ктивног хлора је 30-35 %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У промету је концентрација од 20%. Препарат је јефтин, сигуран и широко се примењује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ипохлорити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Хлор у њима је стабилно везан. Најпознатији препарати су капорит са 60-70% активног хлора, натријум-хипохлорит тј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Жавелова вода са 12-15% активног хлор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лорамини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Органски препарати са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5-60% активног хлор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Имају споро и продужено дејство које се манифестује релативно стабилном нивоом слободног резидуалног хлора по завршетку процеса хлорисања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Функци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сељ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квир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ме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врси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ог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делити 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колик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дцели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амбен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он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ндустријск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он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он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еленил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екреаци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он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аобраћај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централну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н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тд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.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3"/>
          <p:cNvSpPr/>
          <p:nvPr/>
        </p:nvSpPr>
        <p:spPr>
          <a:xfrm>
            <a:off x="684360" y="692280"/>
            <a:ext cx="7543800" cy="51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РСТЕ ХЛОРИС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БНО ХЛОРИС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ТАНДАРДНО ХЛОРИС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ИПЕРХЛОРИСАЊЕ СА ДЕХЛОРИСАЊ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ЛОРАМИНИС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ЛОРИСАЊЕ НА Т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ЧКИ ПРЕЛО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3"/>
          <p:cNvSpPr/>
          <p:nvPr/>
        </p:nvSpPr>
        <p:spPr>
          <a:xfrm>
            <a:off x="395280" y="333360"/>
            <a:ext cx="84978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ЕЗИНФЕКЦИЈА ВОДЕ ОЗОН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зон ј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јако дезинфекционо сред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ксидише и разара органске у неорганске материје у води и побољшава уку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ода која се дезинфикује озоном мора бити чиста и бист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Главни недостатак методе је одсуство продуженог дезинфекционог утица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Хигијена рада је превентивна медицинска грана у оквиру 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ХИГИЈЕНЕ </a:t>
            </a: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која  на бази научних сазнања, практичних мера и поступака обезбеђује високу радну способност и спречава настанак професионалних обољења и других оштећења здравља везаних за радни процес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Она обухвата човека појединца  и  групе  радника  у  радном  процесу,  на радном месту и у амбијенту у коме се рад одвиј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Box 1"/>
          <p:cNvSpPr/>
          <p:nvPr/>
        </p:nvSpPr>
        <p:spPr>
          <a:xfrm>
            <a:off x="2411280" y="62064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ХИГИЈЕНА РА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Захваљујући развоју науке и технике у многим привредним гранама напоран физички рад је све мање заступљен, али се зато повећало психичко оптерећење радника и потреба за одређеним знањем и навикама, што  се  претходно  мора  обезбедити  школовањем радник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Да би одређене послове могао обављати успешно и безбедно, радник мора поседовати посебне психофизичке особине. Зато се у оквиру хигијене рада развијала професионална оријентација и селекција као превентивна гран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Када карактер рада и радна средина имају негативни утицај на здравље и радну способност запослених, то значе да постоје професионални штетни фактори у радној средини. Као професионално штетни фактори, поред физичких, хемијских и билошких, јављају се и  бројни  други  чиниоци  који  нарушавајући  конфор  у радном процесу, доводе до промене здравственог стања и радне способности. Ту спадају нерационална организација рада и одмора, неповољни психосоцијални односи у колективу, неадекватна исхрана, неповољна дужина радног времен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У практичном делу хигијена рада решава питања санитарног надзора у производњи путем периодичне контроле и мерења услова рада и професионалних штетних фактора  у  фабрикама  и  другим  производним установама. Велики значај има и санитарни надзор над пројектовањем, изградњом и реконструкцијом производних објеката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задац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sr-Latn-RS" sz="2500" spc="-1" strike="noStrike">
                <a:solidFill>
                  <a:srgbClr val="000000"/>
                </a:solidFill>
                <a:latin typeface="Calibri"/>
              </a:rPr>
              <a:t>Откривање,  идентификација  и  квантификација  физичких, хеми</a:t>
            </a: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ј</a:t>
            </a:r>
            <a:r>
              <a:rPr b="0" lang="sr-Latn-RS" sz="2500" spc="-1" strike="noStrike">
                <a:solidFill>
                  <a:srgbClr val="000000"/>
                </a:solidFill>
                <a:latin typeface="Calibri"/>
              </a:rPr>
              <a:t>ских и биолошких фактора у радној средини и њихова евалуациј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500" spc="-1" strike="noStrike">
                <a:solidFill>
                  <a:srgbClr val="000000"/>
                </a:solidFill>
                <a:latin typeface="Calibri"/>
              </a:rPr>
              <a:t>2. Евалуација других фактора услова рада и радне средине који делују на организам као стесор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500" spc="-1" strike="noStrike">
                <a:solidFill>
                  <a:srgbClr val="000000"/>
                </a:solidFill>
                <a:latin typeface="Calibri"/>
              </a:rPr>
              <a:t>3. Предлагање  мера  за  побољшавање  услова  рада  и смањивање ризика од настанка професионалних обољења и повреда на раду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500" spc="-1" strike="noStrike">
                <a:solidFill>
                  <a:srgbClr val="000000"/>
                </a:solidFill>
                <a:latin typeface="Calibri"/>
              </a:rPr>
              <a:t>4. Изучавање  и   предлагање   мера   за   обезбеђење физиолошких услова рада у току радног процеса  уз прилагођавање   техничких   система   и   технологиј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500" spc="-1" strike="noStrike">
                <a:solidFill>
                  <a:srgbClr val="000000"/>
                </a:solidFill>
                <a:latin typeface="Calibri"/>
              </a:rPr>
              <a:t>људским могућностима (ергономија рада  и  радне средине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Екологија рада је оријентисана на подручје радне средине и обухват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1.    Процену биолошких захтева радног мест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2.    Препознавање и идентификацију штетност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3.    Евалуацију и контрол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Агенси физичке природ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08000" y="1599840"/>
            <a:ext cx="8856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У агенсе физичке природе чије присуство у радној средини може штетно деловати на раднике спадају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Клима и микроклим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Повећан и снижен барометерски притисак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Осветљеност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Звук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Инфразвук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Ултразвук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Вибрације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Нејонизујуће зрачење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Јонизујуће зрачење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Аерозагађење (Хемијски неактивна прашина)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Механичка сил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Електрична струј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300" spc="-1" strike="noStrike">
                <a:solidFill>
                  <a:srgbClr val="000000"/>
                </a:solidFill>
                <a:latin typeface="Calibri"/>
              </a:rPr>
              <a:t>Својим дејством у радној средини физички агенси могу   довести   до   повреда   на   раду   и   појаве</a:t>
            </a:r>
            <a:r>
              <a:rPr b="0" lang="sr-R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300" spc="-1" strike="noStrike">
                <a:solidFill>
                  <a:srgbClr val="000000"/>
                </a:solidFill>
                <a:latin typeface="Calibri"/>
              </a:rPr>
              <a:t>професионалних и других обољења везаних за рад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Агенси биолошке природ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У агенсе биолошке природе чије присуство у радној средини може штетно деловати на раднике спадају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Вируси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Бактерије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Гљиве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Протозое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Хелмин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Артроподе и др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Ови микроорганизми или њихови фрагменти могу изазвати професионална обољења или обољења везана за рад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У односу на домаћина, биолошки агенси могу бит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i="1" lang="sr-Latn-RS" sz="1800" spc="-1" strike="noStrike">
                <a:solidFill>
                  <a:srgbClr val="000000"/>
                </a:solidFill>
                <a:latin typeface="Calibri"/>
              </a:rPr>
              <a:t>Патогени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- могу довести до инфекције и обољењ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i="1" lang="sr-Latn-RS" sz="1800" spc="-1" strike="noStrike">
                <a:solidFill>
                  <a:srgbClr val="000000"/>
                </a:solidFill>
                <a:latin typeface="Calibri"/>
              </a:rPr>
              <a:t>Опортунистички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- могу изазвати инфекцију и обољење само када је смањена отпорност домаћи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i="1" lang="sr-Latn-RS" sz="1800" spc="-1" strike="noStrike">
                <a:solidFill>
                  <a:srgbClr val="000000"/>
                </a:solidFill>
                <a:latin typeface="Calibri"/>
              </a:rPr>
              <a:t>Апатогени 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-  Изазивају  само  колонизацију  која  не штети домаћин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Агенси хемијске природ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79280" y="1600200"/>
            <a:ext cx="87854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Дејство хемиских материја на организам запослених најчешће се среће у хемијској индустрији, рударству, машиноградњи, нафтној индустрији, гумарству и д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Хемијске  материје  које  унете  у  организам  у малим   количинама   изазивају   хемиске   и   физичко-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хемијске  реакције  са  ткивом  називају  се  отровим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Појам   отровности   је   релативан   јер   практично   све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хемијске  материје  у  одређеним  условима  и  околно- стима могу бити отровн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У производном процесу отровност могу показивати  сировине,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међупродукти,  готови  производи  и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отпадне материј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Хемијски агенси који штетно делују на раднике могу бити у чврстом, течном и гасовитом стању, а према пореклу могу бити органске и неорганске природ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23640" y="404640"/>
            <a:ext cx="858996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>
                <a:solidFill>
                  <a:srgbClr val="000000"/>
                </a:solidFill>
                <a:latin typeface="Calibri"/>
              </a:rPr>
              <a:t>Индустријска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3200" spc="-1" strike="noStrike">
                <a:solidFill>
                  <a:srgbClr val="000000"/>
                </a:solidFill>
                <a:latin typeface="Calibri"/>
              </a:rPr>
              <a:t>зо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вак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ндустриј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ор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ит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веза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обром саобраћајн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ез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авилн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функционисањ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ндустијск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о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бјеката неопходно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безбедити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икључке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нфраструктуру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овољн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личин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лектрич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нерги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ндустријск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он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авилу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двај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им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елени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асив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стављ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з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ета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зван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бодим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рад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циљ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штит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д аерозагађења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уке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457200" y="18864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500" spc="-1" strike="noStrike">
                <a:solidFill>
                  <a:srgbClr val="000000"/>
                </a:solidFill>
                <a:latin typeface="Calibri"/>
              </a:rPr>
              <a:t>ФАКТОРИ ЖИВОТНЕ СРЕДИНЕ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Животну средину карактерише и шест група фактора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9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фактори  везани  за  физичку  активност  радника  (динамичку или статичку),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9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фактори   везани   за   менталну   активност   радник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(перцепција, одлучивање, деловање),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9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хемијски    фактори    (нутрицијенси,   кисеоник,   вода, хемијске материје у радној средини и сл.),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9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физчки фактори (звук, вибрације, клима, радијација и др.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9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биолошки фактори (бактерије, вируси, гљивице, животиње, биљке),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9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социјални фактори (међуљудски односи, организа-ција рада, политички систем)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Наведени фактори животне средине могу се класификовати и према биолошкој есенцијалности на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примарно биолошки есенцијални фактори - неопходни з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развој и очување здравља човека (нутрицијенси, физичка и ментална активност, социјални контакти, температура, влажност и сл.),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примарно неесенцијални фактори - нису неопходни за</a:t>
            </a:r>
            <a:r>
              <a:rPr b="0" lang="sr-R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за развој и очување здравља човек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о (штетне</a:t>
            </a: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хемијске</a:t>
            </a: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материје,</a:t>
            </a: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RS" sz="1900" spc="-1" strike="noStrike">
                <a:solidFill>
                  <a:srgbClr val="000000"/>
                </a:solidFill>
                <a:latin typeface="Calibri"/>
              </a:rPr>
              <a:t>козметика, дуван, алкохол, вибрације, јонизујуће зрачење и др.)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45720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Истовремено  присуство  различитих  фактора  радне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средине може да доведе до њихове међусобне интеракције, овде се првенствено мисли на интер-акцију физичких, хемијских и биолошких фактора радне средине (унутар исте или између различитих група). Интеракције се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могу одвијати у различитим медијумима, али су за медицину  рада  најзначајније интеракције које  се одвијају у ваздуху радне средин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Интеракције животне и радне средин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Интеракција  сунчеве  светлости,  микроорганизама, влажности и температуре ваздуха и пестицид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Истовремено    присуство    сунчеве    светлости    и микроорганизама убрзава разградњу пестицида, као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и већа влажност и температура ваздух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Ваздушни притисак и температура ваздуха делују на садржај издувних гасова дизел мотира;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При  сниженом атмосферском притиску концентрације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киселих органских једињења у  издувним гасовима дизел мотора су веће него ли при нормалном притиску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Настанак фотохемијског смога; У настанку смога учествују атмосферски кисеоник,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ултравиолетна радијација и азотни оксид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Понашање гасова и пара зависи од температуре и притиск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Скривене штет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Скривене  штетности  се  не  користе  и  непроизводе намерно, већ се стварају и у атмосферу ослобађају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sr-Latn-RS" sz="2000" spc="-1" strike="noStrike">
                <a:solidFill>
                  <a:srgbClr val="000000"/>
                </a:solidFill>
                <a:latin typeface="Calibri"/>
              </a:rPr>
              <a:t>  У случају акцидентат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RS" sz="2000" spc="-1" strike="noStrike">
                <a:solidFill>
                  <a:srgbClr val="000000"/>
                </a:solidFill>
                <a:latin typeface="Calibri"/>
              </a:rPr>
              <a:t>Представљају адитив или онечишћење у другим хемијским материјам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Бензен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Фосфин и арсин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Диокси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sr-Latn-RS" sz="2000" spc="-1" strike="noStrike">
                <a:solidFill>
                  <a:srgbClr val="000000"/>
                </a:solidFill>
                <a:latin typeface="Calibri"/>
              </a:rPr>
              <a:t> Приликом сагоревањ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1" lang="sr-Latn-RS" sz="2000" spc="-1" strike="noStrike">
                <a:solidFill>
                  <a:srgbClr val="000000"/>
                </a:solidFill>
                <a:latin typeface="Calibri"/>
              </a:rPr>
              <a:t>  Услед декомпозиц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неопходно познавање и интеракција и извора скривених штетности и опаснос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000" spc="-1" strike="noStrike">
                <a:solidFill>
                  <a:srgbClr val="000000"/>
                </a:solidFill>
                <a:latin typeface="Calibri"/>
              </a:rPr>
              <a:t>МАКСИМАЛНО ДОЗВОЉЕНЕ ДОЗЕ И КОНЦЕНТРАЦИЈЕ (МДК и МДД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МДД и МДК су концентрације и дозе којима по досадашњим сазнањима, радници могу бити изложени 8 сати дневно, 5 дана недељно, током радног века, а да им здравље не буде угрожен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МДК и МДД су обично 2-3 пута мање од концентрација и доза које изазивају хронично обољењ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Овај индекс сигурности (коефицијент резерве) је неопходан због различите индивидуалне осетљивости организма. И поред тога осетљиви и хронично оболели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радници   могу   да   осете   одређене   тегобе   и   при концентрацијама и дозама нижим од МДК и МДД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Посебне норме су израђене за физичке (јонизујуће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зрачење, разне прашине) и друге штетне агенс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МДК и МДД за поједине штености су у неким земљама законски прописане и обавезујуће (европске земље укључујући и нас), док у другим прдстављају само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</a:rPr>
              <a:t>необавезујуће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препоруке-СА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68360" y="25992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Отровност материје највише зависи од концен- трације и времена експозиције. У вези стим разликујемо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концетрационе отрове </a:t>
            </a:r>
            <a:r>
              <a:rPr b="0" i="1" lang="sr-Latn-RS" sz="27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чија отровност зависи претежно од концентрације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хроно-концентрационе отрове - чија отровност зависи од времена експозициј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За оцену отровности неке материје најзначајнија је њена концентрација у крви, мада због различите биолошке активности отрова, ресорбована доза не говори увек о стварној отровности неке материј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Због   тога   се   токсични   ефекат   неке   материје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изражава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односу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смртност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експонованих организама или патолошке промене у организму које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она изазив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itre 1"/>
          <p:cNvSpPr/>
          <p:nvPr/>
        </p:nvSpPr>
        <p:spPr>
          <a:xfrm>
            <a:off x="468360" y="115920"/>
            <a:ext cx="82296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Ко има право на безбедност </a:t>
            </a:r>
            <a:br>
              <a:rPr sz="4000"/>
            </a:b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и здравље на раду</a:t>
            </a: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Espace réservé du contenu 2"/>
          <p:cNvSpPr/>
          <p:nvPr/>
        </p:nvSpPr>
        <p:spPr>
          <a:xfrm>
            <a:off x="0" y="155736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послен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ченици и студенти на пракс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Лица на стручном оспособљавањ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Лица на издржавању затворске казне која ту раде,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Лица на добровољним и јавним радовим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Лица која се затекну у радној околи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0" y="1628280"/>
            <a:ext cx="9144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рупишу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у седам група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еханичке опасности (које се појављују коришћењем опреме за рад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пасности које се појављују у вези са карактеристикама радног мес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пасности које се појављују коришћењем електричне енерг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Штетности које настају или се појављују у процесу рад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Штетности које проистичу из психичких и психофизиолошких напор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Штетности везане за организацију рад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стале штетност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itre 1"/>
          <p:cNvSpPr/>
          <p:nvPr/>
        </p:nvSpPr>
        <p:spPr>
          <a:xfrm>
            <a:off x="395280" y="187200"/>
            <a:ext cx="82296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ОПАСНОСТИ И ШТЕТ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838080" y="609480"/>
            <a:ext cx="77724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000000"/>
                </a:solidFill>
                <a:latin typeface="Times New Roman"/>
              </a:rPr>
              <a:t>Зам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Замор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читав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низ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мањ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ил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виш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повезаних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процес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кој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организму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могу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настат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под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утицајем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веом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различитих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фактор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предугог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пребрзог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ил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уопшт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пренапорног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рад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некомфорних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услов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неувежбаност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неистренираност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т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одсуств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вољ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интерес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рад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ил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тренирањ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ил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због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разних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болесних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стањ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000000"/>
                </a:solidFill>
                <a:latin typeface="Times New Roman"/>
              </a:rPr>
              <a:t>Ум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Умор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субјективни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садржај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којим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манифестује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замор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Замор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умор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су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нормална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корисна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последица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свакодневних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активности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000000"/>
                </a:solidFill>
                <a:latin typeface="Times New Roman"/>
              </a:rPr>
              <a:t>Прем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Премор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стање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замора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умора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које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након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одмора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не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исчезава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sr-CS" sz="1800" spc="-1" strike="noStrike">
                <a:solidFill>
                  <a:srgbClr val="000000"/>
                </a:solidFill>
                <a:latin typeface="Times New Roman"/>
              </a:rPr>
              <a:t>први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r-CS" sz="1800" spc="-1" strike="noStrike">
                <a:solidFill>
                  <a:srgbClr val="000000"/>
                </a:solidFill>
                <a:latin typeface="Times New Roman"/>
              </a:rPr>
              <a:t>симптом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r-CS" sz="1800" spc="-1" strike="noStrike">
                <a:solidFill>
                  <a:srgbClr val="000000"/>
                </a:solidFill>
                <a:latin typeface="Times New Roman"/>
              </a:rPr>
              <a:t>премора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r-CS" sz="18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r-CS" sz="1800" spc="-1" strike="noStrike">
                <a:solidFill>
                  <a:srgbClr val="000000"/>
                </a:solidFill>
                <a:latin typeface="Times New Roman"/>
              </a:rPr>
              <a:t>осећаја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r-CS" sz="1800" spc="-1" strike="noStrike">
                <a:solidFill>
                  <a:srgbClr val="000000"/>
                </a:solidFill>
                <a:latin typeface="Times New Roman"/>
              </a:rPr>
              <a:t>умора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r-CS" sz="1800" spc="-1" strike="noStrike">
                <a:solidFill>
                  <a:srgbClr val="000000"/>
                </a:solidFill>
                <a:latin typeface="Times New Roman"/>
              </a:rPr>
              <a:t>након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r-CS" sz="1800" spc="-1" strike="noStrike">
                <a:solidFill>
                  <a:srgbClr val="000000"/>
                </a:solidFill>
                <a:latin typeface="Times New Roman"/>
              </a:rPr>
              <a:t>спавања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000" spc="-1" strike="noStrike">
                <a:solidFill>
                  <a:srgbClr val="000000"/>
                </a:solidFill>
                <a:latin typeface="Calibri"/>
              </a:rPr>
              <a:t>Стамбена</a:t>
            </a: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3000" spc="-1" strike="noStrike">
                <a:solidFill>
                  <a:srgbClr val="000000"/>
                </a:solidFill>
                <a:latin typeface="Calibri"/>
              </a:rPr>
              <a:t>зон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о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функционална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целина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оју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чине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тамбене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единице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узим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јвећ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радск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ериторију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тамбе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единиц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рупиш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личност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адржај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вршин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број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тановник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азликуј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зивим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пр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стамбена јединица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микрорејон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суперблок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сновн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тамбен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единиц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тамбен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једниц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–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тамбено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дручје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граничено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лавним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аобраћајницама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њу чи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тамбе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град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атећ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бјект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портско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екреативн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ерени 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еле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врши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обраћајниц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нутар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в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рба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цели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тд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000000"/>
                </a:solidFill>
                <a:latin typeface="Calibri"/>
              </a:rPr>
              <a:t>Стамбена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3600" spc="-1" strike="noStrike">
                <a:solidFill>
                  <a:srgbClr val="000000"/>
                </a:solidFill>
                <a:latin typeface="Calibri"/>
              </a:rPr>
              <a:t>зон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збор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локациј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зградњ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тамбе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о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дразумев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благо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гнут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ерен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уж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рјентациј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обр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аобраћајн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везаност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близин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центр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рад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вољан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лажај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ем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ндустријској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он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близин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екреативних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елених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вршин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драве</a:t>
            </a: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слове</a:t>
            </a: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иродне</a:t>
            </a: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редине</a:t>
            </a: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7T13:21:20Z</dcterms:created>
  <dc:creator>Windows User</dc:creator>
  <dc:description/>
  <dc:language>en-US</dc:language>
  <cp:lastModifiedBy>nelad</cp:lastModifiedBy>
  <dcterms:modified xsi:type="dcterms:W3CDTF">2020-10-01T22:30:51Z</dcterms:modified>
  <cp:revision>15</cp:revision>
  <dc:subject/>
  <dc:title>ХИГИЈЕНА И ЕКОЛОГИЈА</dc:title>
</cp:coreProperties>
</file>